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96FF-DB79-4060-A2DD-BE2EAF5F25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7903-C5C9-4A96-AC5D-3A9A4FE55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scape has a hybrid system built in.  It uses RSA for public-key encryption (with -- I believe -- a 512-bit key) and DES for secret-key encry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GP also uses a hybrid system with RSA for the  public-key part, and IDEA for secret-key encryp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one trial division per nanosecond (very fast!), the s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 algorithm takes approximately 10^106 secon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bout 30 x 10^97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ster algorithm takes approximately 3.87 x 10^16  seconds, about  100 millio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stest known algorithm would take about 4 minutes (assuming one trial division per nanosecond).  Increasing the modulus to 1024 bits would increase the number of trial divisions to 2^46 or 7 x 10^13, taking 70,000,000 seconds, a little over 2 ye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can very quickly search a document for a specified phrase (e.g.,  "Top secret" or "Social Security Number"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CF8-6584-4ABF-B89C-260D227E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110-9459-43BD-8729-80EDFE92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07D8-E6E8-4086-95E7-7BEA8B5E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7CD-19F3-4370-A296-7BE6FEEC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7B0-0AC0-4D17-AD51-B5BD91B6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EF73-35ED-4DE7-8345-D2AEDF1D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1FF-CE2F-4F8F-AA54-C1097792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40B-3366-4EF1-A3D7-90BB670C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26C-E9EC-4337-AF22-6B81F3D1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0B0-3F31-4CB8-8497-BFAA7FB0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C04-D148-44DF-B6CC-0AF534A2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B68-A10F-4473-8797-DABF3DD4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8885-E119-45EF-89BA-45E1E9397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047760"/>
            <a:ext cx="67057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tclair State Universit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PT 109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.W. Benh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ing, 199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net Commerce (continue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wants to order brownies from Alice and keep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ntire transa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iv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sends Alice his public k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generates a session key, encrypts it using Bob’s public key, and sends it to Bo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the session key (and an agreed-upon symmetric encryption algorithm) to encrypt his order, and sends it to Al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Signatures:</a:t>
            </a:r>
            <a:br>
              <a:rPr sz="44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igning a Document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applies a (publicly known)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sh func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a document that she wishes to “sign.” This function produces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ig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the document (usually a numb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then uses he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 to “encrypt” the dig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can then send, or even broadcast, the document with the encrypted diges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gital Signature Verification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Alice’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 to “decrypt” the digest that Alice “encrypted” with her private k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applies the hash function to the document to obtain the digest direct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compares these two values for the digest.  If they match, it proves that Alice signed the document and that no one else has altere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Secure Transmission of Digitally Signed Document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uses he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vat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to digitally sign a document.  She then uses Bob’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 to encrypt this digitally signed docu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h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v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 to decrypt the document.  The result is Alice’s digitally signed docu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Alice’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ubl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y to verify Alice’s digital signa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ical Back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76: W. Diffie and M.E. Hellman proposed the first public-key encryption algorithms -- actually an algorithm for public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x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a secret ke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78: L.M Adleman, R.L. Rivest and A. Shamir propose the RSA encryption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ly the most widely 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s for the spreadsheet used in the la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RSA Encryption Algorith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random process to select two large prime number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Compute the produc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 = P*Q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This number is called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dulu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and is made publicly avail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SA currently recommends a modulus that’s at least 768 bits lo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compute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uler toti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 = (P-1)*(Q-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Keep this number (as well a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secre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SA (continue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domly choose a public ke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has no factors in common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 = (P-1)*(Q-1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te a private ke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o tha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*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eaves a remainder of 1 when divided b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say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E*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ongru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modul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tha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easy to compute only if one knows the value of T.  This is essentially the same as knowing the values of P and Q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SA (continue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ny number that is not divisible b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then dividing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E*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taking the remainder yields the original valu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a relatively deep mathematical theorem, which we can write a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Times New Roman"/>
              </a:rPr>
              <a:t>E*D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mod M = 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numeric encoding of a block of plaintext, the cyphertex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s C = N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d 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od M  =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mod M  = 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</a:rPr>
              <a:t>E*D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mod M =  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 Thus, we can recover the plaintex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with the private ke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RSA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ying P by Q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as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the number of operations depends on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umber of bi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number of digits) in P and Q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, multiplying two 384-bit numbers takes approximatel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8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 =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47,456 bit op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RSA Works (2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one knows only M, finding  P and Q i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in essence, the number of operations depends on 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valu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mplest method for factoring a 768-bit number takes about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84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3.94 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1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ial div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ore sophisticated methods takes about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85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3.87 </a:t>
            </a: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ial div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ill more sophisticated method takes about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41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219,000,000,000 trial divis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 Is Cryptography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yptography -- from the Greek for “secret writing” -- is the mathematical “scrambling” of data so that only someone with the necessary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n “unscramble” 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yptography allows secure transmission of private information over insecure channels (for example packet-switched network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yptography also allows secure storage of sensitive data on any compu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y RSA Works (3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-one has found an really quick algorithm  for factoring a large numbe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-one has proven that such a quick algorithm doesn’t exist (or even that one is unlikely to exist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ter Shor has devised a very fast factoring algorithm for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quantum comput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if anyone manages to build 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assical Cryptography:</a:t>
            </a:r>
            <a:br>
              <a:rPr sz="4400"/>
            </a:b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Secret-Key or Symmetric Cryptography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and Bob agree on an encryption method and a share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ke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uses the key and the encryption metho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ncryp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enciph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a message and sends it to Bo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the same key and the related decryption metho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cryp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o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ciph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the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of Classical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ome very fast classical encryption (and decryption) algorith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ce the speed of a method varies with the length of the key, faster algorithms allow one to use longer key valu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r key values make it harder to guess the key valu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- and break the code -- by brute for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Classical Cryptograph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Requires secure transmission of key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a separate key for each group of people that wishes to exchange encrypted messages (readable by any group memb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, to have a separate key for each pair of people, 100 people would need 4950 different  key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Cryptography: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symmetric Cryptography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generates a key value (usually a number or pair of related numbers) which she makes public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uses her public key (and some additional information) to determine a second key (her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private ke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keeps her private key (and the additional information she used to construct it) secr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ublic-Key Cryptography (continued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(or Carol, or anyone else) can use Alice’s public key to encrypt a message for Al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can use her private key to decrypt this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-one without access to Alice’s private key (or the information used to construct it) can easily decrypt the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 Example: Internet Commer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wants to use his credit card to buy some brownies from Alice over the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sends her public key to Bo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 uses this key to encrypt his credit-card number and sends the encrypted number to Al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uses her private key to decrypt this message (and get Bob’s credit-card numb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ybrid Encryption System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known public key encryption algorithms are much slower than the fastest secret-key algorith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hybri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, Alice uses Bob’s public key to send him a secret share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session ke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ice and Bob use the session key to exchange inform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2T02:50:08Z</dcterms:created>
  <dc:creator>James Benham</dc:creator>
  <dc:description/>
  <dc:language>en-US</dc:language>
  <cp:lastModifiedBy>James Benham</cp:lastModifiedBy>
  <cp:lastPrinted>1998-04-29T03:58:59Z</cp:lastPrinted>
  <dcterms:modified xsi:type="dcterms:W3CDTF">1998-04-29T04:13:31Z</dcterms:modified>
  <cp:revision>7</cp:revision>
  <dc:subject/>
  <dc:title>Public-key Encryption</dc:title>
</cp:coreProperties>
</file>